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D90-F4A8-4C76-8EE9-CC66B9AC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F40-2D6F-4A29-96D7-C0A6D9D9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4DB6-52D2-45DB-86D1-0A968613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4A5-5BE1-4DC6-A1E2-944438F9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083B-A7A1-4D28-B6FE-F7CE3F59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ACF5-588B-4422-8C92-42C855D3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87D6-0838-45EC-86B2-E97BC061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FEDA-F553-4209-A768-A95F80D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CB06-4548-4E32-93CA-269945AC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4DEF-8108-495F-A38B-633C02DE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7C0E-5455-4F16-865C-0A0743AB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E5B-3688-407C-9A80-E4B4190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9B58-6F9B-4CB4-9D10-42A5E593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20A2-8B95-4C27-AD5D-2642333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44D8-89F3-4763-AB7B-F6FDE1A0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68F9-297A-4543-A44E-A1FA215B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BBF1-1D1B-4D66-AB89-8E556596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7F2-CA90-4C77-870D-21C2491E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9343-C675-4038-B195-6C8989C6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BC29-06FA-4D7B-B4FE-52966062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A76-5399-42D5-992F-61D6CC87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FAC-D8BE-4EE6-86AA-5CDE7F3C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F1B3-56E5-45DA-B109-6E8AFF57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F782-517C-4393-89DC-6C96ABF1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D71A-4C51-4237-97C0-496E21196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111-540D-48B6-9626-39A0D80E3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rmining Continental vs. Maritime Clim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Rang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Precip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son of Maximum Dis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erature 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ifference between the highest average monthly temperature and the lowest monthly temp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 25 C° =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25 C° = mari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20° C and 5° C = 25 C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2° C and 2 ° C  = 10 C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tal Precip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monthly precipitation to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gt; 1000 mm = mari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 1000 mm = contine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son of Maximum Distrib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– add totals for October – M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– add totals for April – Sept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maximum – Contin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ter maximum - Mari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5448240" y="2286000"/>
            <a:ext cx="3695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3809880" cy="3504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660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inental and Maritime Clima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8:01:56Z</dcterms:created>
  <dc:creator>OCDSB User</dc:creator>
  <dc:description/>
  <dc:language>en-US</dc:language>
  <cp:lastModifiedBy>OCDSB User</cp:lastModifiedBy>
  <dcterms:modified xsi:type="dcterms:W3CDTF">2012-03-26T18:25:06Z</dcterms:modified>
  <cp:revision>6</cp:revision>
  <dc:subject/>
  <dc:title>Determining Continental vs. Maritime Climates</dc:title>
</cp:coreProperties>
</file>